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97BF-C0F3-4E82-A624-2AA6FB5BF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B41B-0DF1-4B5F-81C1-CE59816A30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17D8-8775-4FFF-B43F-3AA14CDDA6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AF4B-3482-4D62-B018-1657D3462C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3537-9A1B-47FE-9D16-19424C7F7B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19E4-B9ED-43BC-B9CA-F689F0643E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D5E8-2DF9-485D-9081-3966A3EF05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3096-12CA-4ADC-884B-C121108A32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1F79-AC40-4CFA-8B2B-5B24FF7CD8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7DC8-005C-45AD-BFD7-6D29F79BA1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8B73-14D3-4C1F-872B-B8977E539D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E42E-A518-466B-BB9A-725FD941E7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E106-BF83-44BB-A700-42E204141C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408F-DC25-47D7-93D6-4D5E0566CC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3D84-669F-446D-9A56-7BC24A87DF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23BC-5AFE-45E5-A0C3-5672930C6D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44C8-5DA2-4383-ADC0-6FEEFF8557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BB91-8D52-4C20-AD7D-489CED57CF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ED87-FE4D-4DC1-99A4-081DDF9E26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958C-60AB-41D2-8D08-83714AC5EE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B9BB-DD35-40E7-B613-6CD03E6015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07B1-237D-42A7-8CFB-33324275FF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B5B3-3CDC-465A-B6A9-6D8DB2A722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9A1A-C1E2-4997-AB86-E1A7A04EF4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5BA4-8144-487A-A225-53210FF62C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FD4D-3409-465D-8546-AD800AA2B8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5F50-9C28-4FA9-89B3-46A9125B3A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C4D0-11B7-4986-9C2B-A9650D556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B819-BAE9-46DB-AD1F-E6DFD132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A7BA-2E4F-48D2-9E17-54314944B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DB36-0190-413E-8D03-E0747A08E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273A-F874-4AE2-85F6-497BCBD73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3EE5-83C0-45F9-BFD3-AC2528B0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6B9B-2055-4D95-AC65-16892737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F6822-4641-4791-9A0A-D20B5198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F15D-4F93-45E1-9A79-816768F6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EA0D0-97CF-4CE9-930A-CB8D5863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1045-69AD-47C1-B676-EF2E05A5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FABE-750A-4B09-990D-BF988855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C0DA-F930-49CC-93CF-7564CC37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D9F5-CBF2-4C95-B281-A7F10220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2BF2-B30D-47ED-B78E-82D3BE35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93EB-0447-413E-9D9B-FD3975CFF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FAD1-E4C0-4A0D-915C-DD4D6C4FC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0318F-6E63-465C-955A-924181B6A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F3170-1C48-4CFE-BD9C-C99C97AB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52D93-9A75-4831-8B28-21A2FBA7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6D7BF-8D49-4FF1-A181-D00DC1E9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C28B4-3E36-492F-AE6B-6FC4D287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BE1F-CC0A-42E1-892E-6587DFCF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F4C0A-5E67-4228-89BA-FAD982ED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D9501-7E33-4F41-B818-347F30B6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74298-F7A7-4CC6-B4C3-6707F6F9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5D805-0B3C-4D7E-950E-B5A7AAEB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92866-5994-4DCB-AE03-318A15FD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FF251-71A8-4FB8-9780-4B218269E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F0379-6B53-47B8-8D2B-95E54A87A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CCFF0-0786-412C-85BA-876F45AA2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A741D-EF96-461B-B877-E771FFCA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58B79-152F-494C-8482-F4965190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974F-E021-4599-B135-51CB9146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F0795-0603-42BE-904E-A45C8E72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9905A-4C5F-4ADC-A200-2C1F6C4D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3A331-9A60-4646-83B9-E6F4A7FA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741B4-E54A-4CAE-A6D1-1D4B3AAF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61807-25E7-424B-8F8D-25CEFC3A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22347-20A1-457A-8077-E60EED77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59801-88BE-435C-B37E-5CC4FA3F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293B0-7F32-45FA-B228-7D1C02834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8BECF-BA67-4240-9663-AA4847495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77B4D-30E2-43B3-A864-6DD54DA1A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1034-CD3F-44A2-A98F-49A9E32E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DC67C-D774-4648-8419-6ACBA7CA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A7FA4-8E2E-4100-81D4-14C6239E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96952-2906-4D33-8469-5B1F59AE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1503C-DE86-4165-AA95-B5BE1710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1C7CC-A27B-4ADE-9A53-8BAD75AD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B8709-854D-4512-98CD-B4E02A6A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F9EED-D7D1-41D3-B2A9-D92A08D9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97736-A2F8-400D-881A-1C3785BA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04275-14AF-4D76-A612-F0BA120B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7E528-A406-4913-B46A-5DCC7D6AD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BB35-8B4D-4006-BAE9-8D0F73D7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67658-08CB-42A3-BAA3-AFE6AA41A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988F-844B-43B9-A4C1-E63869F3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8E77-061F-4FF2-981F-D46E7950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7C90-73E9-4ADA-B702-0C3CC59D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0"/>
            <a:ext cx="993600" cy="6858000"/>
            <a:chOff x="8150400" y="0"/>
            <a:chExt cx="993600" cy="685800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0"/>
              <a:ext cx="9936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8515-6F7B-4AB3-A5D8-D2517DA8E60E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0"/>
            <a:ext cx="6480000" cy="6858000"/>
            <a:chOff x="2664000" y="0"/>
            <a:chExt cx="6480000" cy="6858000"/>
          </a:xfrm>
        </p:grpSpPr>
        <p:pic>
          <p:nvPicPr>
            <p:cNvPr id="45" name="Rectangle 7" descr=""/>
            <p:cNvPicPr/>
            <p:nvPr/>
          </p:nvPicPr>
          <p:blipFill>
            <a:blip r:embed="rId2"/>
            <a:stretch/>
          </p:blipFill>
          <p:spPr>
            <a:xfrm>
              <a:off x="2664000" y="0"/>
              <a:ext cx="6480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D002-708E-4DC5-888B-91F1EE5EECA0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0"/>
            <a:ext cx="993600" cy="6858000"/>
            <a:chOff x="8150400" y="0"/>
            <a:chExt cx="993600" cy="685800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0"/>
              <a:ext cx="9936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2869-6677-440F-9E81-5A75F02AC6FA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1E09-2F17-4AC9-BA33-B07ED2DFD75D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0"/>
            <a:ext cx="993600" cy="6858000"/>
            <a:chOff x="8150400" y="0"/>
            <a:chExt cx="993600" cy="685800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0"/>
              <a:ext cx="9936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79F4-5BC8-4AFE-96AC-93F386252758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Rectangle 2" descr=""/>
          <p:cNvPicPr/>
          <p:nvPr/>
        </p:nvPicPr>
        <p:blipFill>
          <a:blip r:embed="rId1"/>
          <a:stretch/>
        </p:blipFill>
        <p:spPr>
          <a:xfrm>
            <a:off x="609480" y="0"/>
            <a:ext cx="7772400" cy="185904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123720" y="4114440"/>
            <a:ext cx="5867640" cy="1219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lvl="1" marL="4572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rebuchet MS"/>
              </a:rPr>
              <a:t>Departamento de Asuntos Públicos y Libertad Religiosa de la Division Interamericana</a:t>
            </a:r>
            <a:endParaRPr b="0" lang="en-US" sz="2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Rectangle 2" descr=""/>
          <p:cNvPicPr/>
          <p:nvPr/>
        </p:nvPicPr>
        <p:blipFill>
          <a:blip r:embed="rId1"/>
          <a:stretch/>
        </p:blipFill>
        <p:spPr>
          <a:xfrm>
            <a:off x="457200" y="317520"/>
            <a:ext cx="7242120" cy="11764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He aquí, yo estoy a la puerta y llamo; si alguno oye mi voz y abre la puerta, entraré a él, y cenaré con él, y él conmigo</a:t>
            </a:r>
            <a:r>
              <a:rPr b="0" lang="ja-JP" sz="4000" spc="-1" strike="noStrike">
                <a:solidFill>
                  <a:srgbClr val="ffffff"/>
                </a:solidFill>
                <a:latin typeface="Trebuchet MS"/>
              </a:rPr>
              <a:t>”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pocalipsis 3:20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Rectangle 2" descr=""/>
          <p:cNvPicPr/>
          <p:nvPr/>
        </p:nvPicPr>
        <p:blipFill>
          <a:blip r:embed="rId1"/>
          <a:stretch/>
        </p:blipFill>
        <p:spPr>
          <a:xfrm>
            <a:off x="457200" y="317520"/>
            <a:ext cx="7242120" cy="11764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¿Somos realmente libres de elegir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Rectangle 2" descr=""/>
          <p:cNvPicPr/>
          <p:nvPr/>
        </p:nvPicPr>
        <p:blipFill>
          <a:blip r:embed="rId1"/>
          <a:stretch/>
        </p:blipFill>
        <p:spPr>
          <a:xfrm>
            <a:off x="457200" y="317520"/>
            <a:ext cx="7242120" cy="11764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Juan Calvino creía tanto en la salvación por gracia que no podía aceptar la idea de que nosotros tenemos algo para hacer –aún si es solamente para decir </a:t>
            </a:r>
            <a:r>
              <a:rPr b="0" lang="ja-JP" sz="40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sí</a:t>
            </a:r>
            <a:r>
              <a:rPr b="0" lang="ja-JP" sz="4000" spc="-1" strike="noStrike">
                <a:solidFill>
                  <a:srgbClr val="ffffff"/>
                </a:solidFill>
                <a:latin typeface="Trebuchet MS"/>
              </a:rPr>
              <a:t>”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 o </a:t>
            </a:r>
            <a:r>
              <a:rPr b="0" lang="ja-JP" sz="40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no</a:t>
            </a:r>
            <a:r>
              <a:rPr b="0" lang="ja-JP" sz="4000" spc="-1" strike="noStrike">
                <a:solidFill>
                  <a:srgbClr val="ffffff"/>
                </a:solidFill>
                <a:latin typeface="Trebuchet MS"/>
              </a:rPr>
              <a:t>”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Rectangle 2" descr=""/>
          <p:cNvPicPr/>
          <p:nvPr/>
        </p:nvPicPr>
        <p:blipFill>
          <a:blip r:embed="rId1"/>
          <a:stretch/>
        </p:blipFill>
        <p:spPr>
          <a:xfrm>
            <a:off x="457200" y="317520"/>
            <a:ext cx="7242120" cy="11872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¿Tiene consecuencias nuestra libre elección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Rectangle 2" descr=""/>
          <p:cNvPicPr/>
          <p:nvPr/>
        </p:nvPicPr>
        <p:blipFill>
          <a:blip r:embed="rId1"/>
          <a:stretch/>
        </p:blipFill>
        <p:spPr>
          <a:xfrm>
            <a:off x="457200" y="317520"/>
            <a:ext cx="7242120" cy="11764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De todo árbol del huerto podrás comer [eres libre de comer]; mas del árbol de la ciencia del bien y del mal no comerás; porque el día que de él comieres, ciertamente morirás</a:t>
            </a:r>
            <a:r>
              <a:rPr b="0" lang="ja-JP" sz="4000" spc="-1" strike="noStrike">
                <a:solidFill>
                  <a:srgbClr val="ffffff"/>
                </a:solidFill>
                <a:latin typeface="Trebuchet MS"/>
              </a:rPr>
              <a:t>”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Génesis 2:16-17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Rectangle 2" descr=""/>
          <p:cNvPicPr/>
          <p:nvPr/>
        </p:nvPicPr>
        <p:blipFill>
          <a:blip r:embed="rId1"/>
          <a:stretch/>
        </p:blipFill>
        <p:spPr>
          <a:xfrm>
            <a:off x="457200" y="317520"/>
            <a:ext cx="7242120" cy="11764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¿Puede [debe] la religión usar al Estado para forzar a la gente a hacer la decisión correcta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Rectangle 2" descr=""/>
          <p:cNvPicPr/>
          <p:nvPr/>
        </p:nvPicPr>
        <p:blipFill>
          <a:blip r:embed="rId1"/>
          <a:stretch/>
        </p:blipFill>
        <p:spPr>
          <a:xfrm>
            <a:off x="457200" y="317520"/>
            <a:ext cx="7242120" cy="11872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Los emperadores cristianos deberían auxiliar a la Iglesia en la tarea de recuperar a los extraviados</a:t>
            </a:r>
            <a:r>
              <a:rPr b="0" lang="ja-JP" sz="3600" spc="-1" strike="noStrike">
                <a:solidFill>
                  <a:srgbClr val="ffffff"/>
                </a:solidFill>
                <a:latin typeface="Trebuchet MS"/>
              </a:rPr>
              <a:t>”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Rectangle 2" descr=""/>
          <p:cNvPicPr/>
          <p:nvPr/>
        </p:nvPicPr>
        <p:blipFill>
          <a:blip r:embed="rId1"/>
          <a:stretch/>
        </p:blipFill>
        <p:spPr>
          <a:xfrm>
            <a:off x="457200" y="317520"/>
            <a:ext cx="7242120" cy="1176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 los malvados son condenados a muerte de una vez por la autoridad secular, mucha más razón hay prara que los herejes, una vez que son convictos de herejía, sean no solamente excomulgados sino también condenados a muerte</a:t>
            </a:r>
            <a:r>
              <a:rPr b="0" lang="ja-JP" sz="4000" spc="-1" strike="noStrike">
                <a:solidFill>
                  <a:srgbClr val="ffffff"/>
                </a:solidFill>
                <a:latin typeface="Trebuchet MS"/>
              </a:rPr>
              <a:t>”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2" descr=""/>
          <p:cNvPicPr/>
          <p:nvPr/>
        </p:nvPicPr>
        <p:blipFill>
          <a:blip r:embed="rId1"/>
          <a:stretch/>
        </p:blipFill>
        <p:spPr>
          <a:xfrm>
            <a:off x="457200" y="317520"/>
            <a:ext cx="7242120" cy="11764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No es el plan de Dios obligar a los hombres a que abandonen su incredulidad impía.  Delante de ellos están la luz y las tinieblas, la verdad y el error.  Ellos deben decidir lo que van a aceptar.  La mente humana está dotada de facultades para discriminar entre lo correcto y lo erróneo</a:t>
            </a:r>
            <a:r>
              <a:rPr b="0" lang="ja-JP" sz="3600" spc="-1" strike="noStrike">
                <a:solidFill>
                  <a:srgbClr val="ffffff"/>
                </a:solidFill>
                <a:latin typeface="Trebuchet MS"/>
              </a:rPr>
              <a:t>”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BA, tomo 1, página 1134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Rectangle 2" descr=""/>
          <p:cNvPicPr/>
          <p:nvPr/>
        </p:nvPicPr>
        <p:blipFill>
          <a:blip r:embed="rId1"/>
          <a:stretch/>
        </p:blipFill>
        <p:spPr>
          <a:xfrm>
            <a:off x="457200" y="317520"/>
            <a:ext cx="7242120" cy="11764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¿Es nuestra misión defender la libertad de elección?</a:t>
            </a: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609480" y="0"/>
            <a:ext cx="7772400" cy="186516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066680" y="2742840"/>
            <a:ext cx="6553440" cy="3505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…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he puesto delante la vida y la muerte, la bendición y la maldición;  escoge, pues la vida, para que vivas tú y tu descendencia…</a:t>
            </a:r>
            <a:r>
              <a:rPr b="0" lang="ja-JP" sz="4000" spc="-1" strike="noStrike">
                <a:solidFill>
                  <a:srgbClr val="ffffff"/>
                </a:solidFill>
                <a:latin typeface="Trebuchet MS"/>
              </a:rPr>
              <a:t>”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Deuteronomio 30:19</a:t>
            </a: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Rectangle 2" descr=""/>
          <p:cNvPicPr/>
          <p:nvPr/>
        </p:nvPicPr>
        <p:blipFill>
          <a:blip r:embed="rId1"/>
          <a:stretch/>
        </p:blipFill>
        <p:spPr>
          <a:xfrm>
            <a:off x="457200" y="317520"/>
            <a:ext cx="7242120" cy="1176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1" i="1" lang="en-US" sz="2600" spc="-1" strike="noStrike">
                <a:solidFill>
                  <a:srgbClr val="ffde66"/>
                </a:solidFill>
                <a:latin typeface="Trebuchet MS"/>
              </a:rPr>
              <a:t>El estandarte de la verdad y de la libertad religiosa</a:t>
            </a:r>
            <a:r>
              <a:rPr b="1" i="1" lang="en-US" sz="2600" spc="-1" strike="noStrike">
                <a:solidFill>
                  <a:srgbClr val="ffffff"/>
                </a:solidFill>
                <a:latin typeface="Trebuchet MS"/>
              </a:rPr>
              <a:t> sostenido en alto por los fundadores de la iglesia evangélica y por los testigos de Dios durante los siglos que desde entonces han pasado, </a:t>
            </a:r>
            <a:r>
              <a:rPr b="1" i="1" lang="en-US" sz="2600" spc="-1" strike="noStrike">
                <a:solidFill>
                  <a:srgbClr val="ffde66"/>
                </a:solidFill>
                <a:latin typeface="Trebuchet MS"/>
              </a:rPr>
              <a:t>ha sido, para este último conflicto, confiado a nuestras manos</a:t>
            </a:r>
            <a:r>
              <a:rPr b="1" i="1" lang="ja-JP" sz="2600" spc="-1" strike="noStrike">
                <a:solidFill>
                  <a:srgbClr val="ffffff"/>
                </a:solidFill>
                <a:latin typeface="Trebuchet MS"/>
              </a:rPr>
              <a:t>”</a:t>
            </a:r>
            <a:r>
              <a:rPr b="1" i="1" lang="en-US" sz="2600" spc="-1" strike="noStrike">
                <a:solidFill>
                  <a:srgbClr val="ffffff"/>
                </a:solidFill>
                <a:latin typeface="Trebuchet MS"/>
              </a:rPr>
              <a:t> .</a:t>
            </a: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 </a:t>
            </a:r>
            <a:br>
              <a:rPr sz="2800"/>
            </a:b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Los Hechos de los Apóstoles, 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PPPA, Mountain View, California, (1977), página 57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Rectangle 2" descr=""/>
          <p:cNvPicPr/>
          <p:nvPr/>
        </p:nvPicPr>
        <p:blipFill>
          <a:blip r:embed="rId1"/>
          <a:stretch/>
        </p:blipFill>
        <p:spPr>
          <a:xfrm>
            <a:off x="457200" y="317520"/>
            <a:ext cx="7242120" cy="11764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Para los adventistas, la verdad va lado a lado con la libertad para aceptar la verdad, la libertad de decidir.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Rectangle 2" descr=""/>
          <p:cNvPicPr/>
          <p:nvPr/>
        </p:nvPicPr>
        <p:blipFill>
          <a:blip r:embed="rId1"/>
          <a:stretch/>
        </p:blipFill>
        <p:spPr>
          <a:xfrm>
            <a:off x="457200" y="317520"/>
            <a:ext cx="7242120" cy="11764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¿Qué podemos hacer para proteger el derecho de elección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Rectangle 2" descr=""/>
          <p:cNvPicPr/>
          <p:nvPr/>
        </p:nvPicPr>
        <p:blipFill>
          <a:blip r:embed="rId1"/>
          <a:stretch/>
        </p:blipFill>
        <p:spPr>
          <a:xfrm>
            <a:off x="457200" y="317520"/>
            <a:ext cx="7242120" cy="11764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Confiar en Dio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Ser fiele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Orar por los que son perseguido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No atacar otras religiones o iglesia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ctangle 2" descr=""/>
          <p:cNvPicPr/>
          <p:nvPr/>
        </p:nvPicPr>
        <p:blipFill>
          <a:blip r:embed="rId1"/>
          <a:stretch/>
        </p:blipFill>
        <p:spPr>
          <a:xfrm>
            <a:off x="457200" y="317520"/>
            <a:ext cx="7242120" cy="11764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es-ES" sz="4400" spc="-1" strike="noStrike">
                <a:solidFill>
                  <a:srgbClr val="ffffff"/>
                </a:solidFill>
                <a:latin typeface="Trebuchet MS"/>
              </a:rPr>
              <a:t>Al presentar el mensaje no hagáis ataques personales a otras iglesias, ni a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ú</a:t>
            </a:r>
            <a:r>
              <a:rPr b="0" lang="es-ES" sz="4400" spc="-1" strike="noStrike">
                <a:solidFill>
                  <a:srgbClr val="ffffff"/>
                </a:solidFill>
                <a:latin typeface="Trebuchet MS"/>
              </a:rPr>
              <a:t>n a la iglesia Católica Romana”.  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rebuchet MS"/>
              </a:rPr>
              <a:t>El Evangelismo, p. 419. 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Rectangle 2" descr=""/>
          <p:cNvPicPr/>
          <p:nvPr/>
        </p:nvPicPr>
        <p:blipFill>
          <a:blip r:embed="rId1"/>
          <a:stretch/>
        </p:blipFill>
        <p:spPr>
          <a:xfrm>
            <a:off x="457200" y="317520"/>
            <a:ext cx="7242120" cy="11764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Promover y defender la libertad religiosa para todos.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Predicar las buenas nuevas.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Rectangle 2" descr=""/>
          <p:cNvPicPr/>
          <p:nvPr/>
        </p:nvPicPr>
        <p:blipFill>
          <a:blip r:embed="rId1"/>
          <a:stretch/>
        </p:blipFill>
        <p:spPr>
          <a:xfrm>
            <a:off x="457200" y="317520"/>
            <a:ext cx="7242120" cy="11826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533520" y="12949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Porque le amamos a Él, decidimos elegirlo.  Oramos por aquellos que todavía no han hecho su decisión.  Porque le amamos a Él, decidimos promover, proteger y defender la libertad religiosa para toda la gente en todas partes.  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Rectangle 2" descr=""/>
          <p:cNvPicPr/>
          <p:nvPr/>
        </p:nvPicPr>
        <p:blipFill>
          <a:blip r:embed="rId1"/>
          <a:stretch/>
        </p:blipFill>
        <p:spPr>
          <a:xfrm>
            <a:off x="457200" y="317520"/>
            <a:ext cx="7242120" cy="11764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Trebuchet MS"/>
              </a:rPr>
              <a:t>Imagina que nosotros los adventistas somos el 95% de la poblaci</a:t>
            </a: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ó</a:t>
            </a:r>
            <a:r>
              <a:rPr b="0" lang="fr-FR" sz="2600" spc="-1" strike="noStrike">
                <a:solidFill>
                  <a:srgbClr val="ffffff"/>
                </a:solidFill>
                <a:latin typeface="Trebuchet MS"/>
              </a:rPr>
              <a:t>n en cierto pa</a:t>
            </a: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í</a:t>
            </a:r>
            <a:r>
              <a:rPr b="0" lang="fr-FR" sz="2600" spc="-1" strike="noStrike">
                <a:solidFill>
                  <a:srgbClr val="ffffff"/>
                </a:solidFill>
                <a:latin typeface="Trebuchet MS"/>
              </a:rPr>
              <a:t>s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Trebuchet MS"/>
              </a:rPr>
              <a:t>Imagina que el Presidente, los ministros del gobierno, los polic</a:t>
            </a: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í</a:t>
            </a:r>
            <a:r>
              <a:rPr b="0" lang="fr-FR" sz="2600" spc="-1" strike="noStrike">
                <a:solidFill>
                  <a:srgbClr val="ffffff"/>
                </a:solidFill>
                <a:latin typeface="Trebuchet MS"/>
              </a:rPr>
              <a:t>as, los oficiales militares fueran adventistas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¿Todavía promoveríamos nosotros el proteger  la libertad religiosa para todos en todas partes?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Rectangle 2" descr=""/>
          <p:cNvPicPr/>
          <p:nvPr/>
        </p:nvPicPr>
        <p:blipFill>
          <a:blip r:embed="rId1"/>
          <a:stretch/>
        </p:blipFill>
        <p:spPr>
          <a:xfrm>
            <a:off x="378000" y="536400"/>
            <a:ext cx="7242120" cy="17067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3047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Si crees que la libertad religiosa no es importante, ¡prueba la persecución religiosa!  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Rectangle 2" descr=""/>
          <p:cNvPicPr/>
          <p:nvPr/>
        </p:nvPicPr>
        <p:blipFill>
          <a:blip r:embed="rId1"/>
          <a:stretch/>
        </p:blipFill>
        <p:spPr>
          <a:xfrm>
            <a:off x="457200" y="317520"/>
            <a:ext cx="7242120" cy="11764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No hay libertad religiosa en 10 países, y hay muchas restricciones en unos 30 países de la tierra.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Rectangle 2" descr=""/>
          <p:cNvPicPr/>
          <p:nvPr/>
        </p:nvPicPr>
        <p:blipFill>
          <a:blip r:embed="rId1"/>
          <a:stretch/>
        </p:blipFill>
        <p:spPr>
          <a:xfrm>
            <a:off x="457200" y="317520"/>
            <a:ext cx="7242120" cy="11764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Es porque creemos en la libertad de elección.  La libertad de elección es el corazón de la libertad religiosa.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Rectangle 2" descr=""/>
          <p:cNvPicPr/>
          <p:nvPr/>
        </p:nvPicPr>
        <p:blipFill>
          <a:blip r:embed="rId1"/>
          <a:stretch/>
        </p:blipFill>
        <p:spPr>
          <a:xfrm>
            <a:off x="457200" y="317520"/>
            <a:ext cx="7242120" cy="11764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304920" y="1609200"/>
            <a:ext cx="82296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… 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todas las cosas pueden ser quitadas a un hombre, excepto una cosa:  la última de las libertades humanas, el elegir la actitud propia en una específica serie de circunstancias, el elegir tu propio camino.</a:t>
            </a:r>
            <a:r>
              <a:rPr b="0" lang="ja-JP" sz="4000" spc="-1" strike="noStrike">
                <a:solidFill>
                  <a:srgbClr val="ffffff"/>
                </a:solidFill>
                <a:latin typeface="Trebuchet MS"/>
              </a:rPr>
              <a:t>”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V</a:t>
            </a:r>
            <a:r>
              <a:rPr b="0" lang="el-GR" sz="2600" spc="-1" strike="noStrike">
                <a:solidFill>
                  <a:srgbClr val="ffffff"/>
                </a:solidFill>
                <a:latin typeface="Trebuchet MS"/>
              </a:rPr>
              <a:t>ί</a:t>
            </a: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tor Frank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Rectangle 2" descr=""/>
          <p:cNvPicPr/>
          <p:nvPr/>
        </p:nvPicPr>
        <p:blipFill>
          <a:blip r:embed="rId1"/>
          <a:stretch/>
        </p:blipFill>
        <p:spPr>
          <a:xfrm>
            <a:off x="457200" y="317520"/>
            <a:ext cx="7242120" cy="11764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¿Quién nos dio la libertad de elección?</a:t>
            </a:r>
            <a:r>
              <a:rPr b="0" lang="en-US" sz="900" spc="-1" strike="noStrike">
                <a:solidFill>
                  <a:srgbClr val="ffffff"/>
                </a:solidFill>
                <a:latin typeface="Trebuchet MS"/>
              </a:rPr>
              <a:t>             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Rectangle 2" descr=""/>
          <p:cNvPicPr/>
          <p:nvPr/>
        </p:nvPicPr>
        <p:blipFill>
          <a:blip r:embed="rId1"/>
          <a:stretch/>
        </p:blipFill>
        <p:spPr>
          <a:xfrm>
            <a:off x="457200" y="317520"/>
            <a:ext cx="7242120" cy="11764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De todo árbol del huerto podrás comer [eres libre de comer]; mas del árbol de la ciencia del bien y del mal no comerás…</a:t>
            </a:r>
            <a:r>
              <a:rPr b="0" lang="ja-JP" sz="4000" spc="-1" strike="noStrike">
                <a:solidFill>
                  <a:srgbClr val="ffffff"/>
                </a:solidFill>
                <a:latin typeface="Trebuchet MS"/>
              </a:rPr>
              <a:t>”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Génesis 2:16-17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2T01:05:20Z</dcterms:created>
  <dc:creator>John Graz</dc:creator>
  <dc:description/>
  <dc:language>en-US</dc:language>
  <cp:lastModifiedBy>Gabriel  Villarrreal</cp:lastModifiedBy>
  <dcterms:modified xsi:type="dcterms:W3CDTF">2014-07-15T22:27:52Z</dcterms:modified>
  <cp:revision>50</cp:revision>
  <dc:subject/>
  <dc:title>Freedom to Choose</dc:title>
</cp:coreProperties>
</file>